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0DC-8B15-4A75-B8BD-F544DC09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1A0-75EB-4EB8-B11B-DB437A58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51D6-4E35-4AC3-BFC0-4278783C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343-D307-4E7C-9940-3E03D8BD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D89-29D3-4475-B96E-1ADA5F0A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9EC-0340-4B6D-B341-355E017A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A85-6A13-4652-BB2F-F4FF728E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578-7EF7-4209-BEB7-03DDBCC8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906-398C-4A80-8172-A02103C1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5DA-A8A0-428C-883F-BE6D2961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EA8-26BF-44F0-8F2E-62194869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5F14-9C52-4381-86C3-BDE255ED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969C-C2AD-42F6-BC1D-61131B4A450C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Snap ITC"/>
              </a:rPr>
              <a:t>ELEMTE INTUITIVE DE GEOMETR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efb5a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 Rounded MT Bold"/>
              </a:rPr>
              <a:t>Scrieţi în caseta de culoare galbenă de sub fiecare figură geometrică plană denumirea  aceste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 rot="7495200">
            <a:off x="1074600" y="1647720"/>
            <a:ext cx="2374920" cy="29620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539640" y="4149720"/>
            <a:ext cx="2808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5280" y="4797360"/>
            <a:ext cx="3527280" cy="1152720"/>
          </a:xfrm>
          <a:prstGeom prst="rect">
            <a:avLst/>
          </a:prstGeom>
          <a:solidFill>
            <a:srgbClr val="ff0066"/>
          </a:solidFill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755640" y="6165720"/>
            <a:ext cx="2808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4932360" y="1557360"/>
            <a:ext cx="2519280" cy="2521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788000" y="4149720"/>
            <a:ext cx="2808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4500720" y="4653000"/>
            <a:ext cx="1979280" cy="1979640"/>
          </a:xfrm>
          <a:prstGeom prst="ellipse">
            <a:avLst/>
          </a:prstGeom>
          <a:solidFill>
            <a:srgbClr val="9933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659640" y="6093000"/>
            <a:ext cx="2376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CRIE DENUMIRILE FIGURILOR </a:t>
            </a:r>
            <a:r>
              <a:rPr b="0" lang="ro-RO" sz="2000" spc="-1" strike="noStrike">
                <a:solidFill>
                  <a:srgbClr val="ff0066"/>
                </a:solidFill>
                <a:latin typeface="Arial"/>
              </a:rPr>
              <a:t>ŞI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CORPURILOR</a:t>
            </a:r>
            <a:r>
              <a:rPr b="0" lang="ro-RO" sz="2000" spc="-1" strike="noStrike">
                <a:solidFill>
                  <a:srgbClr val="ff0066"/>
                </a:solidFill>
                <a:latin typeface="Arial"/>
              </a:rPr>
              <a:t> DIN IMAGINE</a:t>
            </a:r>
            <a:r>
              <a:rPr b="0" lang="ro-RO" sz="20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>
            <a:off x="1547640" y="1916280"/>
            <a:ext cx="863640" cy="23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ce6f2"/>
              </a:gs>
              <a:gs pos="100000">
                <a:srgbClr val="4f81bd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 rot="5400000">
            <a:off x="1865160" y="2751120"/>
            <a:ext cx="2366640" cy="696960"/>
          </a:xfrm>
          <a:prstGeom prst="rect">
            <a:avLst/>
          </a:prstGeom>
          <a:solidFill>
            <a:srgbClr val="daee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3635280" y="2852640"/>
            <a:ext cx="1276560" cy="129852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7"/>
          <p:cNvSpPr/>
          <p:nvPr/>
        </p:nvSpPr>
        <p:spPr>
          <a:xfrm>
            <a:off x="5003640" y="2708280"/>
            <a:ext cx="1368720" cy="1368360"/>
          </a:xfrm>
          <a:prstGeom prst="ellipse">
            <a:avLst/>
          </a:prstGeom>
          <a:gradFill rotWithShape="0">
            <a:gsLst>
              <a:gs pos="0">
                <a:srgbClr val="fabf8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8"/>
          <p:cNvGrpSpPr/>
          <p:nvPr/>
        </p:nvGrpSpPr>
        <p:grpSpPr>
          <a:xfrm>
            <a:off x="6516720" y="2133720"/>
            <a:ext cx="865080" cy="1958760"/>
            <a:chOff x="6516720" y="2133720"/>
            <a:chExt cx="865080" cy="1958760"/>
          </a:xfrm>
        </p:grpSpPr>
        <p:sp>
          <p:nvSpPr>
            <p:cNvPr id="58" name="AutoShape 19"/>
            <p:cNvSpPr/>
            <p:nvPr/>
          </p:nvSpPr>
          <p:spPr>
            <a:xfrm>
              <a:off x="6516720" y="2133720"/>
              <a:ext cx="865080" cy="1674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585232"/>
                </a:gs>
                <a:gs pos="100000">
                  <a:srgbClr val="938953"/>
                </a:gs>
              </a:gsLst>
              <a:lin ang="2700000"/>
            </a:gradFill>
            <a:ln w="324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6516720" y="3569760"/>
              <a:ext cx="865080" cy="522720"/>
            </a:xfrm>
            <a:prstGeom prst="ellipse">
              <a:avLst/>
            </a:prstGeom>
            <a:gradFill rotWithShape="0">
              <a:gsLst>
                <a:gs pos="0">
                  <a:srgbClr val="585232"/>
                </a:gs>
                <a:gs pos="100000">
                  <a:srgbClr val="938953"/>
                </a:gs>
              </a:gsLst>
              <a:lin ang="2700000"/>
            </a:gradFill>
            <a:ln w="324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AutoShape 21"/>
          <p:cNvSpPr/>
          <p:nvPr/>
        </p:nvSpPr>
        <p:spPr>
          <a:xfrm>
            <a:off x="7667640" y="1989000"/>
            <a:ext cx="1225440" cy="212904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95280" y="4581360"/>
            <a:ext cx="3960720" cy="162000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611280" y="1916280"/>
            <a:ext cx="733320" cy="2211120"/>
          </a:xfrm>
          <a:prstGeom prst="triangle">
            <a:avLst>
              <a:gd name="adj" fmla="val 50000"/>
            </a:avLst>
          </a:prstGeom>
          <a:solidFill>
            <a:srgbClr val="f2db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82692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69236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843280" y="3933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378000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543564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680400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956720" y="364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395280" y="472428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5003640" y="4581360"/>
            <a:ext cx="3816360" cy="1620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5148360" y="1557360"/>
            <a:ext cx="1079280" cy="10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536400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922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99"/>
                </a:solidFill>
                <a:latin typeface="Arial"/>
              </a:rPr>
              <a:t>SCRIE CÂTE FIGURI SUNT ÎN DESENUL DE MAI J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71640" y="2133720"/>
            <a:ext cx="6696000" cy="266364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219564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6443640" y="213372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>
            <a:off x="2195640" y="285264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43640" y="2133720"/>
            <a:ext cx="122400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971640" y="364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826920" y="5084640"/>
            <a:ext cx="6913800" cy="132624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.DREPTUNGHIU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.TRIUNGHIU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3.PĂ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H="1">
            <a:off x="2195640" y="2852640"/>
            <a:ext cx="4248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CALCULEAZĂ DIFERENŢA NUMERELOR DIN INTERIORUL CERCULUI ŞI SUMA NUMERELOR DIN EXTERIORUL CERC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2340000" y="2492280"/>
            <a:ext cx="4176720" cy="25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3492360" y="2852640"/>
            <a:ext cx="1944720" cy="18734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924360" y="37162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796000" y="3357720"/>
            <a:ext cx="576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277164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042920" y="5157720"/>
            <a:ext cx="74167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9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57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cc6600"/>
                </a:solidFill>
                <a:latin typeface="comic"/>
              </a:rPr>
              <a:t>FORME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20640"/>
            <a:ext cx="9144000" cy="122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Selectaţi şi mutaţi în figurile geometrice plane mari pe cele care sunt mici şi de aceeaşi form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324000" y="1989000"/>
            <a:ext cx="2952720" cy="367200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 rot="19771200">
            <a:off x="6156360" y="2133720"/>
            <a:ext cx="792000" cy="43164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4859280" y="6237360"/>
            <a:ext cx="1441440" cy="3603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 rot="2760600">
            <a:off x="8423640" y="4689000"/>
            <a:ext cx="792000" cy="431640"/>
          </a:xfrm>
          <a:prstGeom prst="rtTriangle">
            <a:avLst/>
          </a:prstGeom>
          <a:solidFill>
            <a:srgbClr val="ff6600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2411280" y="5734080"/>
            <a:ext cx="432000" cy="863640"/>
          </a:xfrm>
          <a:prstGeom prst="rtTriangle">
            <a:avLst/>
          </a:prstGeom>
          <a:solidFill>
            <a:srgbClr val="ffcc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2411280" y="1916280"/>
            <a:ext cx="3527640" cy="1152360"/>
          </a:xfrm>
          <a:prstGeom prst="rect">
            <a:avLst/>
          </a:prstGeom>
          <a:solidFill>
            <a:srgbClr val="b9e5c7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468360" y="5877000"/>
            <a:ext cx="358560" cy="7207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 rot="1034400">
            <a:off x="7020000" y="3284280"/>
            <a:ext cx="93672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 rot="5400000">
            <a:off x="8100000" y="3356640"/>
            <a:ext cx="1044360" cy="684360"/>
          </a:xfrm>
          <a:prstGeom prst="rect">
            <a:avLst/>
          </a:prstGeom>
          <a:solidFill>
            <a:srgbClr val="006600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 rot="7977000">
            <a:off x="164520" y="2408040"/>
            <a:ext cx="1260720" cy="422280"/>
          </a:xfrm>
          <a:prstGeom prst="rect">
            <a:avLst/>
          </a:prstGeom>
          <a:solidFill>
            <a:srgbClr val="0000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3348000" y="3284640"/>
            <a:ext cx="2664000" cy="2663640"/>
          </a:xfrm>
          <a:prstGeom prst="rect">
            <a:avLst/>
          </a:prstGeom>
          <a:solidFill>
            <a:srgbClr val="9933ff"/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179280" y="3357720"/>
            <a:ext cx="719280" cy="72072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7380360" y="1989000"/>
            <a:ext cx="1081080" cy="1081080"/>
          </a:xfrm>
          <a:prstGeom prst="rect">
            <a:avLst/>
          </a:prstGeom>
          <a:solidFill>
            <a:srgbClr val="0066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3419640" y="6137280"/>
            <a:ext cx="539640" cy="539640"/>
          </a:xfrm>
          <a:prstGeom prst="rect">
            <a:avLst/>
          </a:prstGeom>
          <a:solidFill>
            <a:srgbClr val="008080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8172360" y="5877000"/>
            <a:ext cx="900360" cy="900000"/>
          </a:xfrm>
          <a:prstGeom prst="rect">
            <a:avLst/>
          </a:prstGeom>
          <a:solidFill>
            <a:srgbClr val="6600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4"/>
          <p:cNvSpPr/>
          <p:nvPr/>
        </p:nvSpPr>
        <p:spPr>
          <a:xfrm>
            <a:off x="6157800" y="3789360"/>
            <a:ext cx="2159280" cy="2158920"/>
          </a:xfrm>
          <a:prstGeom prst="ellipse">
            <a:avLst/>
          </a:prstGeom>
          <a:solidFill>
            <a:srgbClr val="ff00ff"/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5"/>
          <p:cNvSpPr/>
          <p:nvPr/>
        </p:nvSpPr>
        <p:spPr>
          <a:xfrm>
            <a:off x="7020000" y="6094440"/>
            <a:ext cx="503280" cy="503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6"/>
          <p:cNvSpPr/>
          <p:nvPr/>
        </p:nvSpPr>
        <p:spPr>
          <a:xfrm>
            <a:off x="6300720" y="3213000"/>
            <a:ext cx="503280" cy="50328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7"/>
          <p:cNvSpPr/>
          <p:nvPr/>
        </p:nvSpPr>
        <p:spPr>
          <a:xfrm>
            <a:off x="2484360" y="3141720"/>
            <a:ext cx="719280" cy="71892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8"/>
          <p:cNvSpPr/>
          <p:nvPr/>
        </p:nvSpPr>
        <p:spPr>
          <a:xfrm>
            <a:off x="1116000" y="5734080"/>
            <a:ext cx="1079640" cy="1079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Exerciţiul 4</a:t>
            </a:r>
            <a:br>
              <a:rPr sz="2400"/>
            </a:b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1.Desenaţi un cerc, în interiorul  triunghiului;</a:t>
            </a:r>
            <a:br>
              <a:rPr sz="1800"/>
            </a:b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2.Desenează un dreptunghi, un pătrat. În interiorul dreptunghiului    desenează un triunghi, iar în interiorul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ătratului două cercu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99"/>
                </a:solidFill>
                <a:latin typeface="Arial"/>
              </a:rPr>
              <a:t>Stabileşte</a:t>
            </a: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333399"/>
                </a:solidFill>
                <a:latin typeface="Arial"/>
              </a:rPr>
              <a:t>corespondenţa între cele două colo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7380360" y="1773360"/>
            <a:ext cx="733320" cy="649080"/>
          </a:xfrm>
          <a:prstGeom prst="triangle">
            <a:avLst>
              <a:gd name="adj" fmla="val 50000"/>
            </a:avLst>
          </a:prstGeom>
          <a:solidFill>
            <a:srgbClr val="f2dbdb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611280" y="2781360"/>
            <a:ext cx="718920" cy="71892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611280" y="3716280"/>
            <a:ext cx="792000" cy="720720"/>
          </a:xfrm>
          <a:prstGeom prst="cube">
            <a:avLst>
              <a:gd name="adj" fmla="val 25000"/>
            </a:avLst>
          </a:prstGeom>
          <a:solidFill>
            <a:srgbClr val="f79646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611280" y="4724280"/>
            <a:ext cx="792000" cy="720720"/>
          </a:xfrm>
          <a:prstGeom prst="rect">
            <a:avLst/>
          </a:prstGeom>
          <a:solidFill>
            <a:srgbClr val="0066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611280" y="5734080"/>
            <a:ext cx="158436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684360" y="1700280"/>
            <a:ext cx="576000" cy="936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dce6f2"/>
              </a:gs>
              <a:gs pos="100000">
                <a:srgbClr val="4f81bd"/>
              </a:gs>
            </a:gsLst>
            <a:lin ang="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1"/>
          <p:cNvGrpSpPr/>
          <p:nvPr/>
        </p:nvGrpSpPr>
        <p:grpSpPr>
          <a:xfrm>
            <a:off x="7380360" y="2565360"/>
            <a:ext cx="865080" cy="1023840"/>
            <a:chOff x="7380360" y="2565360"/>
            <a:chExt cx="865080" cy="1023840"/>
          </a:xfrm>
        </p:grpSpPr>
        <p:sp>
          <p:nvSpPr>
            <p:cNvPr id="121" name="AutoShape 22"/>
            <p:cNvSpPr/>
            <p:nvPr/>
          </p:nvSpPr>
          <p:spPr>
            <a:xfrm>
              <a:off x="7380360" y="2565360"/>
              <a:ext cx="865080" cy="8751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585232"/>
                </a:gs>
                <a:gs pos="100000">
                  <a:srgbClr val="938953"/>
                </a:gs>
              </a:gsLst>
              <a:lin ang="2700000"/>
            </a:gradFill>
            <a:ln w="324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3"/>
            <p:cNvSpPr/>
            <p:nvPr/>
          </p:nvSpPr>
          <p:spPr>
            <a:xfrm>
              <a:off x="7380360" y="3315960"/>
              <a:ext cx="865080" cy="273240"/>
            </a:xfrm>
            <a:prstGeom prst="ellipse">
              <a:avLst/>
            </a:prstGeom>
            <a:gradFill rotWithShape="0">
              <a:gsLst>
                <a:gs pos="0">
                  <a:srgbClr val="585232"/>
                </a:gs>
                <a:gs pos="100000">
                  <a:srgbClr val="938953"/>
                </a:gs>
              </a:gsLst>
              <a:lin ang="2700000"/>
            </a:gradFill>
            <a:ln w="3240">
              <a:solidFill>
                <a:srgbClr val="f2f2f2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24"/>
          <p:cNvSpPr/>
          <p:nvPr/>
        </p:nvSpPr>
        <p:spPr>
          <a:xfrm>
            <a:off x="7524720" y="3789360"/>
            <a:ext cx="722520" cy="13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5"/>
          <p:cNvSpPr/>
          <p:nvPr/>
        </p:nvSpPr>
        <p:spPr>
          <a:xfrm>
            <a:off x="7093080" y="5516640"/>
            <a:ext cx="151128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7"/>
          <p:cNvSpPr/>
          <p:nvPr/>
        </p:nvSpPr>
        <p:spPr>
          <a:xfrm>
            <a:off x="3419640" y="2205000"/>
            <a:ext cx="2879640" cy="370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REPTUNG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Ă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FER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RIUNG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Ă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ILIND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E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B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8"/>
          <p:cNvSpPr/>
          <p:nvPr/>
        </p:nvSpPr>
        <p:spPr>
          <a:xfrm flipV="1">
            <a:off x="1692360" y="2420640"/>
            <a:ext cx="1800000" cy="33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ebb3e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IGURI GEOMET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5173920"/>
          </a:xfrm>
          <a:prstGeom prst="rect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flaţi suma numerelor din figurile geometrice de acelaşi f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2195640" y="2781360"/>
            <a:ext cx="1152360" cy="11509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492360" y="2349360"/>
            <a:ext cx="1440000" cy="1490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826920" y="4076640"/>
            <a:ext cx="2571840" cy="698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755640" y="2637000"/>
            <a:ext cx="1295280" cy="1272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1"/>
          <p:cNvSpPr/>
          <p:nvPr/>
        </p:nvSpPr>
        <p:spPr>
          <a:xfrm>
            <a:off x="7020000" y="1844640"/>
            <a:ext cx="141912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300720" y="3357720"/>
            <a:ext cx="2016360" cy="914400"/>
          </a:xfrm>
          <a:prstGeom prst="rect">
            <a:avLst/>
          </a:prstGeom>
          <a:solidFill>
            <a:srgbClr val="efb5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826920" y="2698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3635280" y="278136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2268360" y="2781360"/>
            <a:ext cx="6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6"/>
          <p:cNvSpPr/>
          <p:nvPr/>
        </p:nvSpPr>
        <p:spPr>
          <a:xfrm>
            <a:off x="7451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6732720" y="3645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826920" y="4005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0"/>
          <p:cNvSpPr/>
          <p:nvPr/>
        </p:nvSpPr>
        <p:spPr>
          <a:xfrm>
            <a:off x="5076720" y="3284640"/>
            <a:ext cx="91440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292720" y="3645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971640" y="1773360"/>
            <a:ext cx="22334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1476360" y="1700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539640" y="5013360"/>
            <a:ext cx="8064720" cy="707760"/>
          </a:xfrm>
          <a:prstGeom prst="rect">
            <a:avLst/>
          </a:prstGeom>
          <a:solidFill>
            <a:srgbClr val="f9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6"/>
          <p:cNvSpPr/>
          <p:nvPr/>
        </p:nvSpPr>
        <p:spPr>
          <a:xfrm>
            <a:off x="3708360" y="3933720"/>
            <a:ext cx="2232000" cy="863640"/>
          </a:xfrm>
          <a:prstGeom prst="rtTriangle">
            <a:avLst/>
          </a:prstGeom>
          <a:solidFill>
            <a:srgbClr val="ff99ff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3995640" y="4437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9"/>
          <p:cNvSpPr/>
          <p:nvPr/>
        </p:nvSpPr>
        <p:spPr>
          <a:xfrm rot="2760600">
            <a:off x="5051160" y="2066760"/>
            <a:ext cx="1657440" cy="812880"/>
          </a:xfrm>
          <a:prstGeom prst="rtTriangle">
            <a:avLst/>
          </a:prstGeom>
          <a:solidFill>
            <a:srgbClr val="ff6600"/>
          </a:solidFill>
          <a:ln w="2844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0"/>
          <p:cNvSpPr/>
          <p:nvPr/>
        </p:nvSpPr>
        <p:spPr>
          <a:xfrm>
            <a:off x="5148360" y="21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23:07:31Z</dcterms:created>
  <dc:creator>Petre</dc:creator>
  <dc:description/>
  <dc:language>en-US</dc:language>
  <cp:lastModifiedBy>asd</cp:lastModifiedBy>
  <dcterms:modified xsi:type="dcterms:W3CDTF">2009-04-07T05:33:04Z</dcterms:modified>
  <cp:revision>34</cp:revision>
  <dc:subject/>
  <dc:title>FORME PLANE</dc:title>
</cp:coreProperties>
</file>